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274-8032-4D52-85BF-957AE7C0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D0F-0FCF-48AE-B345-D8E7F87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E18-8BB8-404F-B393-2A8245A3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DB0-C95A-4BFD-87B2-2B0D3CF2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EF3-0721-4DC0-8D05-BD76D98F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5D1-39CC-4644-936D-317D6D2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AE4-9CF0-48F7-B2C7-D34D8A9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C2D-7923-4405-A1C9-0685F8C8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D6F-825C-4CFE-BC2B-7910534B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FDF-E1EC-41AB-845E-C722A567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706-3211-47BF-8CA3-56ACD91E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DF8-B327-4EAC-946C-659E3DD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95C4-D83A-4A6C-9687-EE4A796F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247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Sztuczna Inteligencja</a:t>
            </a:r>
            <a:br>
              <a:rPr sz="44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ogika rozmy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Marek Kołodzi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astosowanie w grach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omputer może mieć różne właściwości gracz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iły: silnej, średniej, słabe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Agresywności: łagodny, średni, paskud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 łagodny i atakował, uciekaj szyb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 średni i atakowany, uciekaj pow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 paskudny i silny i atakował, atak ple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ontrola poja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owinna zwalniać kiedy blisko do samochodu na przedzie Powinien przyspieszać kiedy nie ma przeszkód na przodz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189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66"/>
                </a:solidFill>
                <a:latin typeface="Arial"/>
              </a:rPr>
              <a:t>Przykładowe zastosowa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608360" cy="396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9ff66"/>
                </a:solidFill>
                <a:latin typeface="Arial"/>
              </a:rPr>
              <a:t>zuzel2001_v1.8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Przykłady zastosowania fuzzy Logic w grach : Alex’s 3D Fighting Gam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635280" y="2997360"/>
            <a:ext cx="5040360" cy="3520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170028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ff66"/>
                </a:solidFill>
                <a:latin typeface="Arial"/>
              </a:rPr>
              <a:t>Zasady walki przez k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ff66"/>
                </a:solidFill>
                <a:latin typeface="Arial"/>
              </a:rPr>
              <a:t>Prędkość  – prędkość pościgu przez komputer swojego przeci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ff66"/>
                </a:solidFill>
                <a:latin typeface="Arial"/>
              </a:rPr>
              <a:t>Odległość – odległość między komputerem a przeciwnik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3362400" cy="2924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cution Flow of an AI Engin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200400" y="1295280"/>
            <a:ext cx="1288800" cy="4965840"/>
            <a:chOff x="3200400" y="1295280"/>
            <a:chExt cx="1288800" cy="4965840"/>
          </a:xfrm>
        </p:grpSpPr>
        <p:sp>
          <p:nvSpPr>
            <p:cNvPr id="119" name=""/>
            <p:cNvSpPr/>
            <p:nvPr/>
          </p:nvSpPr>
          <p:spPr>
            <a:xfrm>
              <a:off x="3698640" y="1736640"/>
              <a:ext cx="7574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82"/>
                  </a:solidFill>
                  <a:latin typeface="Times New Roman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65520" y="3656160"/>
              <a:ext cx="82368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82"/>
                  </a:solidFill>
                  <a:latin typeface="Times New Roman"/>
                </a:rPr>
                <a:t>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16360" y="5575320"/>
              <a:ext cx="52200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82"/>
                  </a:solidFill>
                  <a:latin typeface="Times New Roman"/>
                </a:rPr>
                <a:t>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76640" y="2100240"/>
              <a:ext cx="0" cy="154476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6640" y="4029120"/>
              <a:ext cx="0" cy="15382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70160" y="5943600"/>
              <a:ext cx="0" cy="31752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417840" y="6251760"/>
              <a:ext cx="644400" cy="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409920" y="1295280"/>
              <a:ext cx="0" cy="49564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02000" y="1297080"/>
              <a:ext cx="677880" cy="144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70160" y="1298520"/>
              <a:ext cx="0" cy="44136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2960640"/>
              <a:ext cx="376200" cy="1448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80082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80082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80082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80082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0" y="3809880"/>
            <a:ext cx="1030320" cy="1800"/>
          </a:xfrm>
          <a:prstGeom prst="line">
            <a:avLst/>
          </a:prstGeom>
          <a:ln w="1260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0800" y="3543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68920" y="2608200"/>
            <a:ext cx="2935440" cy="2454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te-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al 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zzy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-bas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1800" y="745920"/>
            <a:ext cx="73404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Zastosowania logiki rozmytej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025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 szczególności w grach i w maszynach „myślący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teligentne lodówki, pralki, windy, opiekacze do grzanek, aparaty fotograficz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stosowania medyczne: nieprecyzyjny język daje się przełożyć na reguły rozmy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ele zastosowań przemysłowych, głównie dotyczących kontroli procesó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94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http://jupik007.w.interia.pl/prog_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948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http://www.hotlotto2000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odatek - Zastosowani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orocznie odbywają się mistrzostwa w piłce nożnej rozgrywanej przez Robo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http://www.robocup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33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ff66"/>
                </a:solidFill>
                <a:latin typeface="Arial"/>
              </a:rPr>
              <a:t>Dojeżdżanie do przeszkod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260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ff66"/>
                </a:solidFill>
                <a:latin typeface="Arial"/>
              </a:rPr>
              <a:t>Robocik wyczuwa przeszkod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ff66"/>
                </a:solidFill>
                <a:latin typeface="Arial"/>
              </a:rPr>
              <a:t>Robocik omija przeszkodę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38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ff66"/>
                </a:solidFill>
                <a:latin typeface="Arial"/>
              </a:rPr>
              <a:t>Robocik ominął przeszkodę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2286000" cy="2647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057400" cy="211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940360" y="4437000"/>
            <a:ext cx="1771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astosowani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27416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3342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7400" y="3962520"/>
            <a:ext cx="3429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1800" y="620280"/>
            <a:ext cx="7340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Zbiory klasyczn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1711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Arial"/>
              </a:rPr>
              <a:t>mło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43828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Funkc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arakterystycz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9160" y="1447920"/>
            <a:ext cx="52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ło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i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666880"/>
            <a:ext cx="230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młod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</a:t>
            </a:r>
            <a:r>
              <a:rPr b="0" lang="pl-PL" sz="6000" spc="-1" strike="noStrike">
                <a:solidFill>
                  <a:srgbClr val="ffffff"/>
                </a:solidFill>
                <a:latin typeface="Symbol"/>
                <a:ea typeface="Symbol"/>
              </a:rPr>
              <a:t>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666880"/>
            <a:ext cx="304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: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: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64240" y="4114800"/>
            <a:ext cx="3439080" cy="2222280"/>
            <a:chOff x="2064240" y="4114800"/>
            <a:chExt cx="3439080" cy="2222280"/>
          </a:xfrm>
        </p:grpSpPr>
        <p:grpSp>
          <p:nvGrpSpPr>
            <p:cNvPr id="51" name=""/>
            <p:cNvGrpSpPr/>
            <p:nvPr/>
          </p:nvGrpSpPr>
          <p:grpSpPr>
            <a:xfrm>
              <a:off x="2064240" y="4114800"/>
              <a:ext cx="3439080" cy="2222280"/>
              <a:chOff x="2064240" y="4114800"/>
              <a:chExt cx="3439080" cy="2222280"/>
            </a:xfrm>
          </p:grpSpPr>
          <p:sp>
            <p:nvSpPr>
              <p:cNvPr id="52" name=""/>
              <p:cNvSpPr/>
              <p:nvPr/>
            </p:nvSpPr>
            <p:spPr>
              <a:xfrm>
                <a:off x="2438640" y="4724280"/>
                <a:ext cx="1066680" cy="1143000"/>
              </a:xfrm>
              <a:custGeom>
                <a:avLst/>
                <a:gdLst/>
                <a:ahLst/>
                <a:rect l="l" t="t" r="r" b="b"/>
                <a:pathLst>
                  <a:path w="672" h="720">
                    <a:moveTo>
                      <a:pt x="0" y="720"/>
                    </a:moveTo>
                    <a:lnTo>
                      <a:pt x="0" y="0"/>
                    </a:lnTo>
                    <a:lnTo>
                      <a:pt x="672" y="0"/>
                    </a:lnTo>
                    <a:lnTo>
                      <a:pt x="672" y="720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751120" y="4216320"/>
                <a:ext cx="1811160" cy="520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A=“</a:t>
                </a:r>
                <a:r>
                  <a:rPr b="0" lang="pl-PL" sz="2800" spc="-1" strike="noStrike">
                    <a:solidFill>
                      <a:srgbClr val="ffffff"/>
                    </a:solidFill>
                    <a:latin typeface="Arial"/>
                  </a:rPr>
                  <a:t>młody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272840" y="5816520"/>
                <a:ext cx="1230480" cy="520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 [</a:t>
                </a:r>
                <a:r>
                  <a:rPr b="0" lang="pl-PL" sz="2800" spc="-1" strike="noStrike">
                    <a:solidFill>
                      <a:srgbClr val="ffffff"/>
                    </a:solidFill>
                    <a:latin typeface="Arial"/>
                  </a:rPr>
                  <a:t>lata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2438640" y="4114800"/>
                <a:ext cx="0" cy="1752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64240" y="4495680"/>
                <a:ext cx="34992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80080" y="5673600"/>
                <a:ext cx="34992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438280" y="586728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1800" y="620280"/>
            <a:ext cx="7340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Przykład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2355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lasyczne i rozmyte pojęcie „młody człowie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10552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emperatura wrzenia” ma wartość około 100 stopni (ciśnienie, skład chemicz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86200" y="5943600"/>
          <a:ext cx="21225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943600"/>
                    <a:ext cx="21225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324480" y="4952880"/>
            <a:ext cx="1866960" cy="14004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714480" y="2514600"/>
            <a:ext cx="4272480" cy="2222280"/>
            <a:chOff x="3714480" y="2514600"/>
            <a:chExt cx="4272480" cy="2222280"/>
          </a:xfrm>
        </p:grpSpPr>
        <p:sp>
          <p:nvSpPr>
            <p:cNvPr id="66" name=""/>
            <p:cNvSpPr/>
            <p:nvPr/>
          </p:nvSpPr>
          <p:spPr>
            <a:xfrm>
              <a:off x="5280480" y="266688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=“</a:t>
              </a:r>
              <a:r>
                <a:rPr b="0" lang="pl-PL" sz="2400" spc="-1" strike="noStrike">
                  <a:solidFill>
                    <a:srgbClr val="ffffff"/>
                  </a:solidFill>
                  <a:latin typeface="Arial"/>
                </a:rPr>
                <a:t>młody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56480" y="421632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[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lata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952880" y="2514600"/>
              <a:ext cx="0" cy="1752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65520" y="2895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81360" y="407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52880" y="426708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52880" y="3124080"/>
              <a:ext cx="1447920" cy="114300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0" y="0"/>
                  </a:moveTo>
                  <a:lnTo>
                    <a:pt x="432" y="0"/>
                  </a:lnTo>
                  <a:lnTo>
                    <a:pt x="672" y="336"/>
                  </a:lnTo>
                  <a:lnTo>
                    <a:pt x="912" y="720"/>
                  </a:lnTo>
                  <a:lnTo>
                    <a:pt x="0" y="720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791320" y="3352680"/>
              <a:ext cx="0" cy="106704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571640" y="3352680"/>
              <a:ext cx="121932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14480" y="312408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386320" y="44197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7040" y="2590920"/>
            <a:ext cx="3421080" cy="2227680"/>
            <a:chOff x="527040" y="2590920"/>
            <a:chExt cx="3421080" cy="2227680"/>
          </a:xfrm>
        </p:grpSpPr>
        <p:sp>
          <p:nvSpPr>
            <p:cNvPr id="78" name=""/>
            <p:cNvSpPr/>
            <p:nvPr/>
          </p:nvSpPr>
          <p:spPr>
            <a:xfrm>
              <a:off x="914400" y="3200400"/>
              <a:ext cx="1066680" cy="114300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720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720"/>
                  </a:lnTo>
                </a:path>
              </a:pathLst>
            </a:custGeom>
            <a:solidFill>
              <a:srgbClr val="00cc99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42000" y="274320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=“</a:t>
              </a:r>
              <a:r>
                <a:rPr b="0" lang="pl-PL" sz="2400" spc="-1" strike="noStrike">
                  <a:solidFill>
                    <a:srgbClr val="ffffff"/>
                  </a:solidFill>
                  <a:latin typeface="Arial"/>
                </a:rPr>
                <a:t>młody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17640" y="429264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[</a:t>
              </a:r>
              <a:r>
                <a:rPr b="0" lang="pl-PL" sz="2800" spc="-1" strike="noStrike">
                  <a:solidFill>
                    <a:srgbClr val="ffffff"/>
                  </a:solidFill>
                  <a:latin typeface="Arial"/>
                </a:rPr>
                <a:t>lata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914400" y="2590920"/>
              <a:ext cx="0" cy="1752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704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2880" y="414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14400" y="434340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76080" y="4419720"/>
              <a:ext cx="74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pl-PL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9800" y="620280"/>
            <a:ext cx="73407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Rodzaje niepewnośc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pewność stochastyczna: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Np. rzut kostką, wypadek, ryzyko ubezpieczenia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- rachunek prawdopodobieństwa.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pewność pomiarowa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Około 3 cm; 20 punktów - statystyka.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pewność informacyjna: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Wiarygodny kredytobiorca, spełniający warunki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- data mining, szukanie prawidłowości, skojarzeń.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pewność lingwistyczna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     Np. mały, szybki, niska cena ...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Logika rozmyta (L. Zadeh 1965) i logika przybliżo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Przykła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tandardowa logika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2303640" cy="167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2879640" cy="1768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35640" y="3860640"/>
            <a:ext cx="2808360" cy="1598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421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egacji,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sumy i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koniunk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Logika rozmyt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2943360" cy="1704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6160" y="393372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ot(A)=1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16360" y="4365720"/>
            <a:ext cx="3133440" cy="1704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24040" y="4005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B =min 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10200" y="4365720"/>
            <a:ext cx="3133800" cy="1704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08400" y="40053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B =max 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Schemat działania klasycznego układu rozmyteg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oszczególne krok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Fuzzyfikacja wejść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stosowanie operatorów logiki rozmytej do określenia stopnia, w jakim spełniona jest przesłanka w każdej z reguł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stosowanie metody implikacj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Agregacja wszystkich wyjść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fuzzyfikacj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0:23:55Z</dcterms:created>
  <dc:creator>W. Duch</dc:creator>
  <dc:description/>
  <dc:language>en-US</dc:language>
  <cp:lastModifiedBy>kloszi</cp:lastModifiedBy>
  <dcterms:modified xsi:type="dcterms:W3CDTF">2004-01-04T20:27:55Z</dcterms:modified>
  <cp:revision>83</cp:revision>
  <dc:subject/>
  <dc:title>Sztuczna Inteligencja Szukanie  II</dc:title>
</cp:coreProperties>
</file>